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LASER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30.wmf" ContentType="image/x-wmf"/>
  <Override PartName="/ppt/media/image29.wmf" ContentType="image/x-wmf"/>
  <Override PartName="/ppt/media/CAMERA.WAV" ContentType="audio/x-wav"/>
  <Override PartName="/ppt/media/image24.wmf" ContentType="image/x-wmf"/>
  <Override PartName="/ppt/media/CASHREG.WAV" ContentType="audio/x-wav"/>
  <Override PartName="/ppt/media/image31.wmf" ContentType="image/x-wmf"/>
  <Override PartName="/ppt/media/image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27.wmf" ContentType="image/x-wmf"/>
  <Override PartName="/ppt/media/image34.wmf" ContentType="image/x-wmf"/>
  <Override PartName="/ppt/media/image4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2E8-9A45-46CF-852D-6195481D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78E-D2E1-4E62-82CD-470F4E89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E81-A2CC-42FC-B7A8-8A8710C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937-90C5-4905-9B87-AA4BC89B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3FC-DE9B-4C2E-B572-C75DFBC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63A-0BCF-4E55-B8B0-0976F529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3F1-3B6C-4BF5-BFAA-34182DB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82F-1223-4CC7-AC65-B4FB483F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C7A-20EA-4210-801A-29AEC30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1BE-348E-4587-B535-4423A27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BC4-CF18-47EC-BDA8-782A6F7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723-6C35-48FB-8BB2-E63838E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0CCE-3B77-4FA8-89A3-29B773C4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audio" Target="../media/CAMERA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EXPLODE.WAV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audio" Target="../media/CASHREG.WAV"/><Relationship Id="rId26" Type="http://schemas.openxmlformats.org/officeDocument/2006/relationships/audio" Target="../media/CAMERA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CAMERA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audio" Target="../media/CASHREG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EXPLODE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audio" Target="../media/CASHREG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4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ules for Dividing Negative Numbers. 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as Multiplyin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there is an even number of negative numbers,                       then the answer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si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52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f there is an odd number of negative numbers,                      then the answer is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e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0" y="2819520"/>
                <a:ext cx="2819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8" name=""/>
          <p:cNvGraphicFramePr/>
          <p:nvPr/>
        </p:nvGraphicFramePr>
        <p:xfrm>
          <a:off x="2743200" y="2819520"/>
          <a:ext cx="16416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819520"/>
                    <a:ext cx="1641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60920" y="2779560"/>
                <a:ext cx="35053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1" name=""/>
          <p:cNvGraphicFramePr/>
          <p:nvPr/>
        </p:nvGraphicFramePr>
        <p:xfrm>
          <a:off x="8172360" y="2819520"/>
          <a:ext cx="9716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72360" y="2819520"/>
                    <a:ext cx="971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4267080"/>
          <a:ext cx="2984400" cy="56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67080"/>
                    <a:ext cx="298440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971800" y="3733920"/>
          <a:ext cx="1569960" cy="16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733920"/>
                    <a:ext cx="15699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768920" y="3668760"/>
                <a:ext cx="28494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8" name=""/>
          <p:cNvGraphicFramePr/>
          <p:nvPr/>
        </p:nvGraphicFramePr>
        <p:xfrm>
          <a:off x="7162920" y="5105520"/>
          <a:ext cx="134604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62920" y="5105520"/>
                    <a:ext cx="13460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21160"/>
                <a:ext cx="300204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" name=""/>
          <p:cNvGraphicFramePr/>
          <p:nvPr/>
        </p:nvGraphicFramePr>
        <p:xfrm>
          <a:off x="3173400" y="5307120"/>
          <a:ext cx="134604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3400" y="5307120"/>
                    <a:ext cx="13460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00600" y="5867280"/>
          <a:ext cx="2695680" cy="567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5867280"/>
                    <a:ext cx="269568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43800" y="5867280"/>
          <a:ext cx="13381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5867280"/>
                    <a:ext cx="1338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376960" y="5176800"/>
                <a:ext cx="18446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3120" y="5388120"/>
                <a:ext cx="25876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7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mplify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3" name=""/>
          <p:cNvGraphicFramePr/>
          <p:nvPr/>
        </p:nvGraphicFramePr>
        <p:xfrm>
          <a:off x="0" y="1066680"/>
          <a:ext cx="3363840" cy="14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33638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276720" y="990720"/>
          <a:ext cx="334008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990720"/>
                    <a:ext cx="3340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0" y="3048120"/>
          <a:ext cx="2747880" cy="14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8120"/>
                    <a:ext cx="274788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90920" y="2971800"/>
          <a:ext cx="3441600" cy="16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2971800"/>
                    <a:ext cx="3441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5029200"/>
          <a:ext cx="2984400" cy="14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5029200"/>
                    <a:ext cx="29844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2819520" y="4952880"/>
          <a:ext cx="2984400" cy="15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4952880"/>
                    <a:ext cx="29844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477120" y="1447920"/>
          <a:ext cx="1336680" cy="61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1447920"/>
                    <a:ext cx="133668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620120" y="1447920"/>
          <a:ext cx="1233360" cy="76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1447920"/>
                    <a:ext cx="1233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19920" y="3429000"/>
          <a:ext cx="1334880" cy="619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9920" y="3429000"/>
                    <a:ext cx="13348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238880" y="2971800"/>
          <a:ext cx="1438560" cy="159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8880" y="2971800"/>
                    <a:ext cx="14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40560" y="5442120"/>
          <a:ext cx="1645920" cy="618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40560" y="5442120"/>
                    <a:ext cx="16459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315200" y="5410080"/>
          <a:ext cx="1131840" cy="619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315200" y="5410080"/>
                    <a:ext cx="11318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9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1" name=""/>
          <p:cNvGraphicFramePr/>
          <p:nvPr/>
        </p:nvGraphicFramePr>
        <p:xfrm>
          <a:off x="0" y="990720"/>
          <a:ext cx="5826240" cy="14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582624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228680" y="2475000"/>
                <a:ext cx="2036880" cy="15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6629400" y="2895480"/>
          <a:ext cx="10396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895480"/>
                    <a:ext cx="10396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0" y="3886200"/>
          <a:ext cx="781524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78152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39760" y="5356080"/>
                <a:ext cx="226080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934320" y="5791320"/>
          <a:ext cx="965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791320"/>
                    <a:ext cx="965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657600" y="5275440"/>
          <a:ext cx="1886040" cy="158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275440"/>
                    <a:ext cx="188604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715000" y="5275440"/>
          <a:ext cx="107460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5275440"/>
                    <a:ext cx="107460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429000" y="2438280"/>
          <a:ext cx="2212920" cy="1600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438280"/>
                    <a:ext cx="2212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562720" y="2438280"/>
          <a:ext cx="1081080" cy="16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438280"/>
                    <a:ext cx="1081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21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aluate the express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3" name=""/>
          <p:cNvGraphicFramePr/>
          <p:nvPr/>
        </p:nvGraphicFramePr>
        <p:xfrm>
          <a:off x="-25560" y="990720"/>
          <a:ext cx="5875560" cy="14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990720"/>
                    <a:ext cx="58755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70000" y="2422440"/>
                <a:ext cx="24098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5000760" y="2895480"/>
          <a:ext cx="109692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760" y="2895480"/>
                    <a:ext cx="1096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0" y="3886200"/>
          <a:ext cx="871524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86200"/>
                    <a:ext cx="87152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30200" y="5226120"/>
                <a:ext cx="326232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7772400" y="5486400"/>
          <a:ext cx="9651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5486400"/>
                    <a:ext cx="965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35440" y="5122800"/>
          <a:ext cx="2498760" cy="17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35440" y="5122800"/>
                    <a:ext cx="24987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248520" y="5029200"/>
          <a:ext cx="1433520" cy="15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029200"/>
                    <a:ext cx="143352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52480" y="2514600"/>
          <a:ext cx="623880" cy="62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52480" y="2514600"/>
                    <a:ext cx="623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656160" y="2438280"/>
          <a:ext cx="1388880" cy="16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6160" y="2438280"/>
                    <a:ext cx="13888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438280" y="2514600"/>
          <a:ext cx="623880" cy="627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2514600"/>
                    <a:ext cx="6238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207040" y="5181480"/>
          <a:ext cx="86688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07040" y="5181480"/>
                    <a:ext cx="8668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800600" y="6019920"/>
          <a:ext cx="76500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00600" y="6019920"/>
                    <a:ext cx="765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2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2T18:17:52Z</dcterms:modified>
  <cp:revision>100</cp:revision>
  <dc:subject/>
  <dc:title>No Slide Title</dc:title>
</cp:coreProperties>
</file>